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1C91-B7C4-4AD1-BF02-5D422975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1DCA-2318-4A5C-BC23-95D07365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9D8A-085D-48CF-AD2E-D59B9340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9D9E-FC1E-4FBF-9829-D7A0AAA9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4EE9-7FBC-4A6E-B880-BDDF8B01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6D6D-7BC4-42AE-9940-C4BBE328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7D70-87AC-48F2-A610-D2CE2BA7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DD02-6C2D-48F3-BAAD-66C8EAE5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C3E7-A452-4C5A-98C9-0407558C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6DC9-2858-4E19-90AC-28A1ABEB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4499-1BA4-4179-A974-6250429C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D582-D31F-418F-8D17-AC1BA1B5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993B-5E89-4536-B6A4-514BAD5EE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leazar Cant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eek city-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t3.gstatic.com/images?q=tbn:ANd9GcQCjw9J7Gvdd5-53Q7nhG6qAA8xvCvRWP8vN6hel0rukfjUReB4Tg"/>
          <p:cNvPicPr/>
          <p:nvPr/>
        </p:nvPicPr>
        <p:blipFill>
          <a:blip r:embed="rId1"/>
          <a:stretch/>
        </p:blipFill>
        <p:spPr>
          <a:xfrm>
            <a:off x="1371600" y="3048120"/>
            <a:ext cx="586728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udy  of wisdom and he right to l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t3.gstatic.com/images?q=tbn:ANd9GcQL0wxhuw8L0MrqMHjGpGParG1S6U8DsUaJ9gjOqNniVg8ZsmTbxw"/>
          <p:cNvPicPr/>
          <p:nvPr/>
        </p:nvPicPr>
        <p:blipFill>
          <a:blip r:embed="rId1"/>
          <a:stretch/>
        </p:blipFill>
        <p:spPr>
          <a:xfrm>
            <a:off x="380880" y="2743200"/>
            <a:ext cx="8001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ea of land nearly surrounded by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t2.gstatic.com/images?q=tbn:ANd9GcR_b0YuBcSuJxtS5mjP57H1115sDevg-vfZB-gSW3M66lT_0pc1"/>
          <p:cNvPicPr/>
          <p:nvPr/>
        </p:nvPicPr>
        <p:blipFill>
          <a:blip r:embed="rId1"/>
          <a:stretch/>
        </p:blipFill>
        <p:spPr>
          <a:xfrm>
            <a:off x="1143000" y="2819520"/>
            <a:ext cx="7238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ar between Sparta and Athe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t0.gstatic.com/images?q=tbn:ANd9GcQiIHf-aWmOdggel0HzX0uq450mujGGsqwGWFtcn3qkB97WfghF"/>
          <p:cNvPicPr/>
          <p:nvPr/>
        </p:nvPicPr>
        <p:blipFill>
          <a:blip r:embed="rId1"/>
          <a:stretch/>
        </p:blipFill>
        <p:spPr>
          <a:xfrm>
            <a:off x="990720" y="2743200"/>
            <a:ext cx="6629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 o government that is ran by a small group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t0.gstatic.com/images?q=tbn:ANd9GcQImSMHIdr0NRtXB-veUii2ikr-vsGBF50rxuDZq8P0V5ttDypS"/>
          <p:cNvPicPr/>
          <p:nvPr/>
        </p:nvPicPr>
        <p:blipFill>
          <a:blip r:embed="rId1"/>
          <a:stretch/>
        </p:blipFill>
        <p:spPr>
          <a:xfrm>
            <a:off x="1066680" y="2971800"/>
            <a:ext cx="6400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heltered place or coas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t1.gstatic.com/images?q=tbn:ANd9GcQncAZV_coDKfQB8YPRhi3SDDxnMLvEjjUKk4mMo1Q8az5J5qIq"/>
          <p:cNvPicPr/>
          <p:nvPr/>
        </p:nvPicPr>
        <p:blipFill>
          <a:blip r:embed="rId1"/>
          <a:stretch/>
        </p:blipFill>
        <p:spPr>
          <a:xfrm>
            <a:off x="1981080" y="2895480"/>
            <a:ext cx="4724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bjb34.jpg"/>
          <p:cNvPicPr/>
          <p:nvPr/>
        </p:nvPicPr>
        <p:blipFill>
          <a:blip r:embed="rId1"/>
          <a:stretch/>
        </p:blipFill>
        <p:spPr>
          <a:xfrm>
            <a:off x="457200" y="2362320"/>
            <a:ext cx="8077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ontent Placeholder 4" descr="imagesbjb9.jpg"/>
          <p:cNvPicPr/>
          <p:nvPr/>
        </p:nvPicPr>
        <p:blipFill>
          <a:blip r:embed="rId1"/>
          <a:stretch/>
        </p:blipFill>
        <p:spPr>
          <a:xfrm>
            <a:off x="380880" y="2438280"/>
            <a:ext cx="815364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demosthenes_assembly_athensbjb.jpg"/>
          <p:cNvPicPr/>
          <p:nvPr/>
        </p:nvPicPr>
        <p:blipFill>
          <a:blip r:embed="rId1"/>
          <a:stretch/>
        </p:blipFill>
        <p:spPr>
          <a:xfrm>
            <a:off x="304920" y="2971800"/>
            <a:ext cx="845820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erson who has a certain r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archive.worldhistoria.com/uploads/30663/Attila_.GIF"/>
          <p:cNvPicPr/>
          <p:nvPr/>
        </p:nvPicPr>
        <p:blipFill>
          <a:blip r:embed="rId1"/>
          <a:stretch/>
        </p:blipFill>
        <p:spPr>
          <a:xfrm>
            <a:off x="457200" y="2438280"/>
            <a:ext cx="7924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roup of people that came to settle from a different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t1.gstatic.com/images?q=tbn:ANd9GcTHnrvcskzN8c2rCM_BX4NrB_20R0_e-Lh1rN_TZ23Z2I3hXVWQzg"/>
          <p:cNvPicPr/>
          <p:nvPr/>
        </p:nvPicPr>
        <p:blipFill>
          <a:blip r:embed="rId1"/>
          <a:stretch/>
        </p:blipFill>
        <p:spPr>
          <a:xfrm>
            <a:off x="838080" y="3048120"/>
            <a:ext cx="74678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 of gov. that the people dec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1.jpg"/>
          <p:cNvPicPr/>
          <p:nvPr/>
        </p:nvPicPr>
        <p:blipFill>
          <a:blip r:embed="rId1"/>
          <a:stretch/>
        </p:blipFill>
        <p:spPr>
          <a:xfrm>
            <a:off x="304920" y="2895480"/>
            <a:ext cx="8305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ear and decide whose  guil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t2.gstatic.com/images?q=tbn:ANd9GcQ8v0gw8SL14PSaqXuoaSc0TrpWVIGFIPWIqGcVcA_nppQjg1WDtg"/>
          <p:cNvPicPr/>
          <p:nvPr/>
        </p:nvPicPr>
        <p:blipFill>
          <a:blip r:embed="rId1"/>
          <a:stretch/>
        </p:blipFill>
        <p:spPr>
          <a:xfrm>
            <a:off x="304920" y="2743200"/>
            <a:ext cx="7924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 headed by one ru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t2.gstatic.com/images?q=tbn:ANd9GcSsq4HhS0vVs0CIqb0lkC_Y4C6LJebttAnWVh6q79NA1L1ewvIp"/>
          <p:cNvPicPr/>
          <p:nvPr/>
        </p:nvPicPr>
        <p:blipFill>
          <a:blip r:embed="rId1"/>
          <a:stretch/>
        </p:blipFill>
        <p:spPr>
          <a:xfrm>
            <a:off x="1600200" y="3429000"/>
            <a:ext cx="57913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poweruser</cp:lastModifiedBy>
  <dcterms:modified xsi:type="dcterms:W3CDTF">2012-03-06T20:59:11Z</dcterms:modified>
  <cp:revision>92</cp:revision>
  <dc:subject/>
  <dc:title>Ancient Greece</dc:title>
</cp:coreProperties>
</file>